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wmf" ContentType="image/x-wmf"/>
  <Override PartName="/ppt/media/drmrol03.wav" ContentType="audio/x-wav"/>
  <Override PartName="/ppt/media/bbeeps04.wav" ContentType="audio/x-wav"/>
  <Override PartName="/ppt/media/image5.wmf" ContentType="image/x-wmf"/>
  <Override PartName="/ppt/media/image9.gif" ContentType="image/gif"/>
  <Override PartName="/ppt/media/hzipup01.wav" ContentType="audio/x-wav"/>
  <Override PartName="/ppt/media/children%20wow.wav" ContentType="audio/x-wav"/>
  <Override PartName="/ppt/media/image7.wmf" ContentType="image/x-wmf"/>
  <Override PartName="/ppt/media/image1.wmf" ContentType="image/x-wmf"/>
  <Override PartName="/ppt/media/CASHREG.WAV" ContentType="audio/x-wav"/>
  <Override PartName="/ppt/media/image4.wmf" ContentType="image/x-wmf"/>
  <Override PartName="/ppt/media/EXPLODE.WAV" ContentType="audio/x-wav"/>
  <Override PartName="/ppt/media/image2.wmf" ContentType="image/x-wmf"/>
  <Override PartName="/ppt/media/jetflyby.wav" ContentType="audio/x-wav"/>
  <Override PartName="/ppt/media/CHIMES.WAV" ContentType="audio/x-wav"/>
  <Override PartName="/ppt/media/kid%20yeah.wav" ContentType="audio/x-wav"/>
  <Override PartName="/ppt/media/zapbig0g.wav" ContentType="audio/x-wav"/>
  <Override PartName="/ppt/media/partyhorn.wav" ContentType="audio/x-wav"/>
  <Override PartName="/ppt/media/boinng04.wav" ContentType="audio/x-wav"/>
  <Override PartName="/ppt/media/owl.wav" ContentType="audio/x-wav"/>
  <Override PartName="/ppt/media/cricket.wav" ContentType="audio/x-wav"/>
  <Override PartName="/ppt/media/image10.gif" ContentType="image/gif"/>
  <Override PartName="/ppt/media/bserie06.wav" ContentType="audio/x-wav"/>
  <Override PartName="/ppt/media/image8.wmf" ContentType="image/x-wmf"/>
  <Override PartName="/ppt/media/WHOOSH.WAV" ContentType="audio/x-wav"/>
  <Override PartName="/ppt/media/CAMERA.WAV" ContentType="audio/x-wav"/>
  <Override PartName="/ppt/media/CARBRAKE.WAV" ContentType="audio/x-wav"/>
  <Override PartName="/ppt/media/byipee04.wav" ContentType="audio/x-wav"/>
  <Override PartName="/ppt/media/LASER.WAV" ContentType="audio/x-wav"/>
  <Override PartName="/ppt/media/peopleooo.wav" ContentType="audio/x-wav"/>
  <Override PartName="/ppt/media/jetflyby2.wav" ContentType="audio/x-wav"/>
  <Override PartName="/ppt/media/DRIVEBY.WAV" ContentType="audio/x-wav"/>
  <Override PartName="/ppt/media/zipdn102.wav" ContentType="audio/x-wav"/>
  <Override PartName="/ppt/media/RICOCHET.WAV" ContentType="audio/x-wav"/>
  <Override PartName="/ppt/media/image3.wmf" ContentType="image/x-wmf"/>
  <Override PartName="/ppt/media/GUNSHOT.WAV" ContentType="audio/x-wav"/>
  <Override PartName="/ppt/media/highchime.wav" ContentType="audio/x-wav"/>
  <Override PartName="/ppt/media/caralarmoff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9C1-A478-4357-9457-2DA0F016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C4E-9BC5-4885-ABD9-3B279CBB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05BD-64C6-4F1E-AC28-89A2135C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ECD-A6BA-40CF-8929-B5C7A060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650-86B1-4C06-A038-464AD952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040-D7A8-44C0-9C83-593CADF6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C42-888D-4308-9433-B6A8A714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9F1-7B00-4107-8104-B1CF87E4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4FE-858B-4544-BD78-14CAB9C8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BF6-36D1-4222-A1C8-C46BE8E2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72D-5483-4755-8D1B-77744B28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A30-EBE5-4E67-9ACA-DD176D24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31BA-D277-4050-A114-622FFA74C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GUNSHOT.WAV"/><Relationship Id="rId3" Type="http://schemas.openxmlformats.org/officeDocument/2006/relationships/audio" Target="../media/CARBRAKE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bserie06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bserie06.wav"/><Relationship Id="rId20" Type="http://schemas.openxmlformats.org/officeDocument/2006/relationships/audio" Target="../media/RICOCHET.WAV"/><Relationship Id="rId21" Type="http://schemas.openxmlformats.org/officeDocument/2006/relationships/audio" Target="../media/RICOCHET.WAV"/><Relationship Id="rId22" Type="http://schemas.openxmlformats.org/officeDocument/2006/relationships/audio" Target="../media/children%20wow.wav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bserie06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bserie06.wav"/><Relationship Id="rId22" Type="http://schemas.openxmlformats.org/officeDocument/2006/relationships/audio" Target="../media/LASER.WAV"/><Relationship Id="rId23" Type="http://schemas.openxmlformats.org/officeDocument/2006/relationships/audio" Target="../media/children%20wow.wav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hzipup01.wav"/><Relationship Id="rId6" Type="http://schemas.openxmlformats.org/officeDocument/2006/relationships/audio" Target="../media/DRIVEBY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DRIVEBY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children%20wow.wav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jetflyby2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hzipup01.wav"/><Relationship Id="rId10" Type="http://schemas.openxmlformats.org/officeDocument/2006/relationships/audio" Target="../media/jetflyby2.wav"/><Relationship Id="rId11" Type="http://schemas.openxmlformats.org/officeDocument/2006/relationships/audio" Target="../media/hzipup01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bserie06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bserie06.wav"/><Relationship Id="rId25" Type="http://schemas.openxmlformats.org/officeDocument/2006/relationships/audio" Target="../media/LASER.WAV"/><Relationship Id="rId26" Type="http://schemas.openxmlformats.org/officeDocument/2006/relationships/audio" Target="../media/children%20wow.wav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drmrol03.wav"/><Relationship Id="rId8" Type="http://schemas.openxmlformats.org/officeDocument/2006/relationships/audio" Target="../media/jetflyby.wav"/><Relationship Id="rId9" Type="http://schemas.openxmlformats.org/officeDocument/2006/relationships/audio" Target="../media/zipdn102.wav"/><Relationship Id="rId10" Type="http://schemas.openxmlformats.org/officeDocument/2006/relationships/audio" Target="../media/boinng04.wav"/><Relationship Id="rId11" Type="http://schemas.openxmlformats.org/officeDocument/2006/relationships/audio" Target="../media/zipdn102.wav"/><Relationship Id="rId12" Type="http://schemas.openxmlformats.org/officeDocument/2006/relationships/audio" Target="../media/bbeeps04.wav"/><Relationship Id="rId13" Type="http://schemas.openxmlformats.org/officeDocument/2006/relationships/audio" Target="../media/bbeeps04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hzipup01.wav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audio" Target="../media/partyhorn.wav"/><Relationship Id="rId15" Type="http://schemas.openxmlformats.org/officeDocument/2006/relationships/audio" Target="../media/partyhorn.wav"/><Relationship Id="rId16" Type="http://schemas.openxmlformats.org/officeDocument/2006/relationships/audio" Target="../media/jetflyby.wav"/><Relationship Id="rId17" Type="http://schemas.openxmlformats.org/officeDocument/2006/relationships/audio" Target="../media/bbeeps04.wav"/><Relationship Id="rId18" Type="http://schemas.openxmlformats.org/officeDocument/2006/relationships/audio" Target="../media/bbeeps04.wav"/><Relationship Id="rId19" Type="http://schemas.openxmlformats.org/officeDocument/2006/relationships/audio" Target="../media/zipdn102.wav"/><Relationship Id="rId20" Type="http://schemas.openxmlformats.org/officeDocument/2006/relationships/audio" Target="../media/zipdn102.wav"/><Relationship Id="rId21" Type="http://schemas.openxmlformats.org/officeDocument/2006/relationships/audio" Target="../media/hzipup01.wav"/><Relationship Id="rId22" Type="http://schemas.openxmlformats.org/officeDocument/2006/relationships/audio" Target="../media/hzipup01.wav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audio" Target="../media/CHIMES.WAV"/><Relationship Id="rId6" Type="http://schemas.openxmlformats.org/officeDocument/2006/relationships/audio" Target="../media/bbeeps04.wav"/><Relationship Id="rId7" Type="http://schemas.openxmlformats.org/officeDocument/2006/relationships/audio" Target="../media/bbeeps04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drmrol03.wav"/><Relationship Id="rId3" Type="http://schemas.openxmlformats.org/officeDocument/2006/relationships/audio" Target="../media/DRIVEBY.WAV"/><Relationship Id="rId4" Type="http://schemas.openxmlformats.org/officeDocument/2006/relationships/audio" Target="../media/hzipup01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cricket.wav"/><Relationship Id="rId12" Type="http://schemas.openxmlformats.org/officeDocument/2006/relationships/audio" Target="../media/cricket.wav"/><Relationship Id="rId13" Type="http://schemas.openxmlformats.org/officeDocument/2006/relationships/audio" Target="../media/cricket.wav"/><Relationship Id="rId14" Type="http://schemas.openxmlformats.org/officeDocument/2006/relationships/audio" Target="../media/hzipup01.wav"/><Relationship Id="rId15" Type="http://schemas.openxmlformats.org/officeDocument/2006/relationships/audio" Target="../media/cricket.wav"/><Relationship Id="rId16" Type="http://schemas.openxmlformats.org/officeDocument/2006/relationships/audio" Target="../media/cricket.wav"/><Relationship Id="rId17" Type="http://schemas.openxmlformats.org/officeDocument/2006/relationships/audio" Target="../media/children%20wow.wav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owl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bbeeps04.wav"/><Relationship Id="rId5" Type="http://schemas.openxmlformats.org/officeDocument/2006/relationships/audio" Target="../media/partyhorn.wav"/><Relationship Id="rId6" Type="http://schemas.openxmlformats.org/officeDocument/2006/relationships/audio" Target="../media/partyhorn.wav"/><Relationship Id="rId7" Type="http://schemas.openxmlformats.org/officeDocument/2006/relationships/audio" Target="../media/partyhorn.wav"/><Relationship Id="rId8" Type="http://schemas.openxmlformats.org/officeDocument/2006/relationships/audio" Target="../media/partyhorn.wav"/><Relationship Id="rId9" Type="http://schemas.openxmlformats.org/officeDocument/2006/relationships/audio" Target="../media/partyhorn.wav"/><Relationship Id="rId10" Type="http://schemas.openxmlformats.org/officeDocument/2006/relationships/audio" Target="../media/bbeeps04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byipee04.wav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peopleooo.wav"/><Relationship Id="rId5" Type="http://schemas.openxmlformats.org/officeDocument/2006/relationships/audio" Target="../media/bbeeps04.wav"/><Relationship Id="rId6" Type="http://schemas.openxmlformats.org/officeDocument/2006/relationships/audio" Target="../media/bbeeps04.wav"/><Relationship Id="rId7" Type="http://schemas.openxmlformats.org/officeDocument/2006/relationships/audio" Target="../media/bbeeps04.wav"/><Relationship Id="rId8" Type="http://schemas.openxmlformats.org/officeDocument/2006/relationships/audio" Target="../media/bbeeps04.wav"/><Relationship Id="rId9" Type="http://schemas.openxmlformats.org/officeDocument/2006/relationships/audio" Target="../media/partyhorn.wav"/><Relationship Id="rId10" Type="http://schemas.openxmlformats.org/officeDocument/2006/relationships/audio" Target="../media/partyhorn.wav"/><Relationship Id="rId11" Type="http://schemas.openxmlformats.org/officeDocument/2006/relationships/audio" Target="../media/bbeeps04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peopleooo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audio" Target="../media/DRIVEBY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audio" Target="../media/WHOOSH.WAV"/><Relationship Id="rId6" Type="http://schemas.openxmlformats.org/officeDocument/2006/relationships/audio" Target="../media/caralarmoff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hzipup01.wav"/><Relationship Id="rId16" Type="http://schemas.openxmlformats.org/officeDocument/2006/relationships/audio" Target="../media/bbeeps04.wav"/><Relationship Id="rId17" Type="http://schemas.openxmlformats.org/officeDocument/2006/relationships/audio" Target="../media/partyhorn.wav"/><Relationship Id="rId18" Type="http://schemas.openxmlformats.org/officeDocument/2006/relationships/audio" Target="../media/partyhorn.wav"/><Relationship Id="rId19" Type="http://schemas.openxmlformats.org/officeDocument/2006/relationships/audio" Target="../media/partyhorn.wav"/><Relationship Id="rId20" Type="http://schemas.openxmlformats.org/officeDocument/2006/relationships/audio" Target="../media/partyhorn.wav"/><Relationship Id="rId21" Type="http://schemas.openxmlformats.org/officeDocument/2006/relationships/audio" Target="../media/partyhorn.wav"/><Relationship Id="rId22" Type="http://schemas.openxmlformats.org/officeDocument/2006/relationships/audio" Target="../media/bbeeps04.wav"/><Relationship Id="rId23" Type="http://schemas.openxmlformats.org/officeDocument/2006/relationships/audio" Target="../media/bserie06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byipee04.wav"/><Relationship Id="rId3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bbeeps04.wav"/><Relationship Id="rId8" Type="http://schemas.openxmlformats.org/officeDocument/2006/relationships/audio" Target="../media/bbeeps04.wav"/><Relationship Id="rId9" Type="http://schemas.openxmlformats.org/officeDocument/2006/relationships/audio" Target="../media/bbeeps04.wav"/><Relationship Id="rId10" Type="http://schemas.openxmlformats.org/officeDocument/2006/relationships/audio" Target="../media/bbeeps04.wav"/><Relationship Id="rId11" Type="http://schemas.openxmlformats.org/officeDocument/2006/relationships/audio" Target="../media/partyhorn.wav"/><Relationship Id="rId12" Type="http://schemas.openxmlformats.org/officeDocument/2006/relationships/audio" Target="../media/partyhorn.wav"/><Relationship Id="rId13" Type="http://schemas.openxmlformats.org/officeDocument/2006/relationships/audio" Target="../media/bbeeps04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peopleooo.wav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zipup01.wav"/><Relationship Id="rId17" Type="http://schemas.openxmlformats.org/officeDocument/2006/relationships/audio" Target="../media/hzipup01.wav"/><Relationship Id="rId18" Type="http://schemas.openxmlformats.org/officeDocument/2006/relationships/audio" Target="../media/cricket.wav"/><Relationship Id="rId19" Type="http://schemas.openxmlformats.org/officeDocument/2006/relationships/audio" Target="../media/cricket.wav"/><Relationship Id="rId20" Type="http://schemas.openxmlformats.org/officeDocument/2006/relationships/audio" Target="../media/cricket.wav"/><Relationship Id="rId21" Type="http://schemas.openxmlformats.org/officeDocument/2006/relationships/audio" Target="../media/hzipup01.wav"/><Relationship Id="rId22" Type="http://schemas.openxmlformats.org/officeDocument/2006/relationships/audio" Target="../media/cricket.wav"/><Relationship Id="rId23" Type="http://schemas.openxmlformats.org/officeDocument/2006/relationships/audio" Target="../media/cricket.wav"/><Relationship Id="rId24" Type="http://schemas.openxmlformats.org/officeDocument/2006/relationships/audio" Target="../media/children%20wow.wav"/><Relationship Id="rId2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audio" Target="../media/caralarmoff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bbeeps04.wav"/><Relationship Id="rId10" Type="http://schemas.openxmlformats.org/officeDocument/2006/relationships/audio" Target="../media/partyhorn.wav"/><Relationship Id="rId11" Type="http://schemas.openxmlformats.org/officeDocument/2006/relationships/audio" Target="../media/partyhorn.wav"/><Relationship Id="rId12" Type="http://schemas.openxmlformats.org/officeDocument/2006/relationships/audio" Target="../media/partyhorn.wav"/><Relationship Id="rId13" Type="http://schemas.openxmlformats.org/officeDocument/2006/relationships/audio" Target="../media/partyhorn.wav"/><Relationship Id="rId14" Type="http://schemas.openxmlformats.org/officeDocument/2006/relationships/audio" Target="../media/partyhorn.wav"/><Relationship Id="rId15" Type="http://schemas.openxmlformats.org/officeDocument/2006/relationships/audio" Target="../media/bbeeps04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byipee04.wav"/><Relationship Id="rId2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cricket.wav"/><Relationship Id="rId5" Type="http://schemas.openxmlformats.org/officeDocument/2006/relationships/audio" Target="../media/cricket.wav"/><Relationship Id="rId6" Type="http://schemas.openxmlformats.org/officeDocument/2006/relationships/audio" Target="../media/cricket.wav"/><Relationship Id="rId7" Type="http://schemas.openxmlformats.org/officeDocument/2006/relationships/audio" Target="../media/hzipup01.wav"/><Relationship Id="rId8" Type="http://schemas.openxmlformats.org/officeDocument/2006/relationships/audio" Target="../media/cricket.wav"/><Relationship Id="rId9" Type="http://schemas.openxmlformats.org/officeDocument/2006/relationships/audio" Target="../media/cricket.wav"/><Relationship Id="rId10" Type="http://schemas.openxmlformats.org/officeDocument/2006/relationships/audio" Target="../media/children%20wow.wav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bserie06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bserie06.wav"/><Relationship Id="rId22" Type="http://schemas.openxmlformats.org/officeDocument/2006/relationships/audio" Target="../media/children%20wow.wav"/><Relationship Id="rId23" Type="http://schemas.openxmlformats.org/officeDocument/2006/relationships/audio" Target="../media/bbeeps04.wav"/><Relationship Id="rId24" Type="http://schemas.openxmlformats.org/officeDocument/2006/relationships/audio" Target="../media/bbeeps04.wav"/><Relationship Id="rId25" Type="http://schemas.openxmlformats.org/officeDocument/2006/relationships/audio" Target="../media/bbeeps04.wav"/><Relationship Id="rId26" Type="http://schemas.openxmlformats.org/officeDocument/2006/relationships/audio" Target="../media/bbeeps04.wav"/><Relationship Id="rId27" Type="http://schemas.openxmlformats.org/officeDocument/2006/relationships/audio" Target="../media/partyhorn.wav"/><Relationship Id="rId28" Type="http://schemas.openxmlformats.org/officeDocument/2006/relationships/audio" Target="../media/partyhorn.wav"/><Relationship Id="rId29" Type="http://schemas.openxmlformats.org/officeDocument/2006/relationships/audio" Target="../media/bbeeps04.wav"/><Relationship Id="rId30" Type="http://schemas.openxmlformats.org/officeDocument/2006/relationships/audio" Target="../media/zipdn102.wav"/><Relationship Id="rId31" Type="http://schemas.openxmlformats.org/officeDocument/2006/relationships/audio" Target="../media/zipdn102.wav"/><Relationship Id="rId32" Type="http://schemas.openxmlformats.org/officeDocument/2006/relationships/audio" Target="../media/peopleooo.wav"/><Relationship Id="rId3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CAMERA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LASER.WAV"/><Relationship Id="rId17" Type="http://schemas.openxmlformats.org/officeDocument/2006/relationships/audio" Target="../media/kid%20yeah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EXPLODE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EXPLODE.WAV"/><Relationship Id="rId13" Type="http://schemas.openxmlformats.org/officeDocument/2006/relationships/audio" Target="../media/RICOCHET.WAV"/><Relationship Id="rId14" Type="http://schemas.openxmlformats.org/officeDocument/2006/relationships/audio" Target="../media/RICOCHET.WAV"/><Relationship Id="rId15" Type="http://schemas.openxmlformats.org/officeDocument/2006/relationships/audio" Target="../media/kid%20yeah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DRIVEBY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DRIVEBY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kid%20yeah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bserie06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bserie06.wav"/><Relationship Id="rId29" Type="http://schemas.openxmlformats.org/officeDocument/2006/relationships/audio" Target="../media/LASER.WAV"/><Relationship Id="rId30" Type="http://schemas.openxmlformats.org/officeDocument/2006/relationships/audio" Target="../media/children%20wow.wav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GUNSHOT.WAV"/><Relationship Id="rId13" Type="http://schemas.openxmlformats.org/officeDocument/2006/relationships/audio" Target="../media/GUNSHOT.WAV"/><Relationship Id="rId14" Type="http://schemas.openxmlformats.org/officeDocument/2006/relationships/audio" Target="../media/GUNSHOT.WAV"/><Relationship Id="rId15" Type="http://schemas.openxmlformats.org/officeDocument/2006/relationships/audio" Target="../media/bserie06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bserie06.wav"/><Relationship Id="rId20" Type="http://schemas.openxmlformats.org/officeDocument/2006/relationships/audio" Target="../media/RICOCHET.WAV"/><Relationship Id="rId21" Type="http://schemas.openxmlformats.org/officeDocument/2006/relationships/audio" Target="../media/RICOCHET.WAV"/><Relationship Id="rId22" Type="http://schemas.openxmlformats.org/officeDocument/2006/relationships/audio" Target="../media/children%20wow.wav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bserie06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bserie06.wav"/><Relationship Id="rId27" Type="http://schemas.openxmlformats.org/officeDocument/2006/relationships/audio" Target="../media/LASER.WAV"/><Relationship Id="rId28" Type="http://schemas.openxmlformats.org/officeDocument/2006/relationships/audio" Target="../media/children%20wow.wav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1523880"/>
            <a:ext cx="3276720" cy="1295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3657600"/>
            <a:ext cx="3276720" cy="1295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819520"/>
            <a:ext cx="327672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962520" y="3657600"/>
            <a:ext cx="4952520" cy="2133360"/>
            <a:chOff x="3962520" y="3657600"/>
            <a:chExt cx="4952520" cy="2133360"/>
          </a:xfrm>
        </p:grpSpPr>
        <p:sp>
          <p:nvSpPr>
            <p:cNvPr id="47" name=""/>
            <p:cNvSpPr/>
            <p:nvPr/>
          </p:nvSpPr>
          <p:spPr>
            <a:xfrm>
              <a:off x="4800600" y="4952880"/>
              <a:ext cx="3276000" cy="838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62520" y="3657600"/>
              <a:ext cx="838080" cy="129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76960" y="3657600"/>
              <a:ext cx="838080" cy="1295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0" y="1600200"/>
            <a:ext cx="4495680" cy="2257920"/>
            <a:chOff x="0" y="1600200"/>
            <a:chExt cx="4495680" cy="2257920"/>
          </a:xfrm>
        </p:grpSpPr>
        <p:grpSp>
          <p:nvGrpSpPr>
            <p:cNvPr id="51" name=""/>
            <p:cNvGrpSpPr/>
            <p:nvPr/>
          </p:nvGrpSpPr>
          <p:grpSpPr>
            <a:xfrm>
              <a:off x="457200" y="1600200"/>
              <a:ext cx="3733920" cy="1752480"/>
              <a:chOff x="457200" y="1600200"/>
              <a:chExt cx="3733920" cy="1752480"/>
            </a:xfrm>
          </p:grpSpPr>
          <p:sp>
            <p:nvSpPr>
              <p:cNvPr id="52" name=""/>
              <p:cNvSpPr/>
              <p:nvPr/>
            </p:nvSpPr>
            <p:spPr>
              <a:xfrm>
                <a:off x="457200" y="1600200"/>
                <a:ext cx="3733920" cy="1752480"/>
              </a:xfrm>
              <a:prstGeom prst="cube">
                <a:avLst>
                  <a:gd name="adj" fmla="val 25000"/>
                </a:avLst>
              </a:prstGeom>
              <a:solidFill>
                <a:srgbClr val="ff99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4400" y="160020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914400" y="2895480"/>
                <a:ext cx="32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457200" y="2895480"/>
                <a:ext cx="4572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828800" y="32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09880" y="2895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3623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010200" y="1905120"/>
            <a:ext cx="6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l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7320" y="4038480"/>
            <a:ext cx="6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l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75360" y="297180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7320" y="510552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8760" y="396252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h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9920" y="396252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h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33520" y="5791320"/>
                <a:ext cx="64767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598760" y="6240600"/>
                <a:ext cx="43448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for each space figure. If the answer is not a whole number round to the nearest tenth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8288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8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2819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3962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464832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    )(   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988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4724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0572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51814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     )(      ) + (  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257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2.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67480" y="52578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7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58672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             +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95840" y="5867280"/>
            <a:ext cx="18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9.33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3240" y="5867280"/>
            <a:ext cx="18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8.08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58672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= 87.4 m </a:t>
            </a: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3581280"/>
            <a:ext cx="1828800" cy="533520"/>
          </a:xfrm>
          <a:prstGeom prst="ellipse">
            <a:avLst/>
          </a:prstGeom>
          <a:solidFill>
            <a:srgbClr val="ffcc99">
              <a:alpha val="7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1828800"/>
            <a:ext cx="1828800" cy="2286000"/>
          </a:xfrm>
          <a:prstGeom prst="can">
            <a:avLst>
              <a:gd name="adj" fmla="val 25000"/>
            </a:avLst>
          </a:prstGeom>
          <a:solidFill>
            <a:srgbClr val="ffcc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2133720"/>
            <a:ext cx="1828800" cy="0"/>
          </a:xfrm>
          <a:prstGeom prst="line">
            <a:avLst/>
          </a:prstGeom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78" idx="0"/>
          </p:cNvCxnSpPr>
          <p:nvPr/>
        </p:nvCxnSpPr>
        <p:spPr>
          <a:xfrm rot="5400000">
            <a:off x="2788560" y="1314360"/>
            <a:ext cx="240480" cy="1269360"/>
          </a:xfrm>
          <a:prstGeom prst="curvedConnector5">
            <a:avLst>
              <a:gd name="adj1" fmla="val -95352"/>
              <a:gd name="adj2" fmla="val 49985"/>
              <a:gd name="adj3" fmla="val -9535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for each space figure. If the answer is not a whole number round to the nearest tenth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82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1752480"/>
            <a:ext cx="2286000" cy="2895840"/>
          </a:xfrm>
          <a:prstGeom prst="cube">
            <a:avLst>
              <a:gd name="adj" fmla="val 25000"/>
            </a:avLst>
          </a:prstGeom>
          <a:solidFill>
            <a:srgbClr val="ccccff">
              <a:alpha val="3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22096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57400" y="1676520"/>
            <a:ext cx="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990360" y="19810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590560" y="205740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4572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43200" y="5181480"/>
                <a:ext cx="48020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447920" y="5943600"/>
                <a:ext cx="63608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743200" y="5943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5943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5943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5943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5943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5943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086360" y="2133720"/>
                <a:ext cx="4824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5180040" y="3048120"/>
                <a:ext cx="2519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019840" y="3809880"/>
                <a:ext cx="33242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5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5410080" y="21337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3080" y="21337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772400" y="21337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30481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for each space figure. If the answer is not a whole number round to the nearest tenth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1981080"/>
            <a:ext cx="5639040" cy="2593080"/>
            <a:chOff x="152280" y="1981080"/>
            <a:chExt cx="5639040" cy="2593080"/>
          </a:xfrm>
        </p:grpSpPr>
        <p:sp>
          <p:nvSpPr>
            <p:cNvPr id="326" name=""/>
            <p:cNvSpPr/>
            <p:nvPr/>
          </p:nvSpPr>
          <p:spPr>
            <a:xfrm>
              <a:off x="152280" y="350496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57200" y="1981080"/>
              <a:ext cx="5334120" cy="2593080"/>
              <a:chOff x="457200" y="1981080"/>
              <a:chExt cx="5334120" cy="2593080"/>
            </a:xfrm>
          </p:grpSpPr>
          <p:sp>
            <p:nvSpPr>
              <p:cNvPr id="328" name=""/>
              <p:cNvSpPr/>
              <p:nvPr/>
            </p:nvSpPr>
            <p:spPr>
              <a:xfrm>
                <a:off x="1143000" y="3047760"/>
                <a:ext cx="4648320" cy="1143000"/>
              </a:xfrm>
              <a:custGeom>
                <a:avLst/>
                <a:gdLst/>
                <a:ahLst/>
                <a:rect l="l" t="t" r="r" b="b"/>
                <a:pathLst>
                  <a:path w="2928" h="720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0"/>
                    </a:lnTo>
                    <a:lnTo>
                      <a:pt x="1392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43000" y="335268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05320" y="220968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143000" y="2209680"/>
                <a:ext cx="2362320" cy="1981080"/>
              </a:xfrm>
              <a:custGeom>
                <a:avLst/>
                <a:gdLst/>
                <a:ahLst/>
                <a:rect l="l" t="t" r="r" b="b"/>
                <a:pathLst>
                  <a:path w="1488" h="1248">
                    <a:moveTo>
                      <a:pt x="0" y="1248"/>
                    </a:moveTo>
                    <a:lnTo>
                      <a:pt x="0" y="720"/>
                    </a:lnTo>
                    <a:lnTo>
                      <a:pt x="1488" y="0"/>
                    </a:lnTo>
                    <a:lnTo>
                      <a:pt x="1488" y="528"/>
                    </a:lnTo>
                    <a:lnTo>
                      <a:pt x="0" y="1248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143000" y="2209680"/>
                <a:ext cx="4648320" cy="1981080"/>
              </a:xfrm>
              <a:custGeom>
                <a:avLst/>
                <a:gdLst/>
                <a:ahLst/>
                <a:rect l="l" t="t" r="r" b="b"/>
                <a:pathLst>
                  <a:path w="2928" h="1248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528"/>
                    </a:lnTo>
                    <a:lnTo>
                      <a:pt x="1392" y="1248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71600" y="411444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19320" y="24382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20968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7200" y="19810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2095560" y="1905120"/>
            <a:ext cx="6819840" cy="2209320"/>
            <a:chOff x="2095560" y="1905120"/>
            <a:chExt cx="6819840" cy="2209320"/>
          </a:xfrm>
        </p:grpSpPr>
        <p:sp>
          <p:nvSpPr>
            <p:cNvPr id="338" name=""/>
            <p:cNvSpPr/>
            <p:nvPr/>
          </p:nvSpPr>
          <p:spPr>
            <a:xfrm>
              <a:off x="6172200" y="19051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two right triangles will form a 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9" name=""/>
            <p:cNvCxnSpPr>
              <a:stCxn id="335" idx="1"/>
              <a:endCxn id="338" idx="1"/>
            </p:cNvCxnSpPr>
            <p:nvPr/>
          </p:nvCxnSpPr>
          <p:spPr>
            <a:xfrm flipH="1" flipV="1" rot="10800000">
              <a:off x="4037400" y="2437200"/>
              <a:ext cx="2134440" cy="60840"/>
            </a:xfrm>
            <a:prstGeom prst="curvedConnector5">
              <a:avLst>
                <a:gd name="adj1" fmla="val -10711"/>
                <a:gd name="adj2" fmla="val -378571"/>
                <a:gd name="adj3" fmla="val -1071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"/>
            <p:cNvCxnSpPr>
              <a:stCxn id="333" idx="0"/>
              <a:endCxn id="338" idx="1"/>
            </p:cNvCxnSpPr>
            <p:nvPr/>
          </p:nvCxnSpPr>
          <p:spPr>
            <a:xfrm flipH="1" flipV="1" rot="5400000">
              <a:off x="3325680" y="1267920"/>
              <a:ext cx="1616400" cy="40773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41" name=""/>
          <p:cNvSpPr/>
          <p:nvPr/>
        </p:nvSpPr>
        <p:spPr>
          <a:xfrm>
            <a:off x="6400800" y="320040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0800000">
            <a:off x="6400800" y="320040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19920" y="3429000"/>
            <a:ext cx="1752120" cy="992880"/>
            <a:chOff x="6019920" y="3429000"/>
            <a:chExt cx="1752120" cy="992880"/>
          </a:xfrm>
        </p:grpSpPr>
        <p:sp>
          <p:nvSpPr>
            <p:cNvPr id="344" name=""/>
            <p:cNvSpPr/>
            <p:nvPr/>
          </p:nvSpPr>
          <p:spPr>
            <a:xfrm>
              <a:off x="6019920" y="3429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91160" y="3962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14300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1 = 3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/>
          <p:nvPr/>
        </p:nvCxnSpPr>
        <p:spPr>
          <a:xfrm flipV="1" rot="10800000">
            <a:off x="1142280" y="3733560"/>
            <a:ext cx="153000" cy="991080"/>
          </a:xfrm>
          <a:prstGeom prst="curvedConnector5">
            <a:avLst>
              <a:gd name="adj1" fmla="val 200943"/>
              <a:gd name="adj2" fmla="val 27797"/>
              <a:gd name="adj3" fmla="val 2009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289548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4340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2 = 5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endCxn id="349" idx="1"/>
          </p:cNvCxnSpPr>
          <p:nvPr/>
        </p:nvCxnSpPr>
        <p:spPr>
          <a:xfrm flipH="1" rot="16200000">
            <a:off x="3335760" y="359676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"/>
          <p:cNvSpPr/>
          <p:nvPr/>
        </p:nvSpPr>
        <p:spPr>
          <a:xfrm>
            <a:off x="609588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/>
          <p:nvPr/>
        </p:nvCxnSpPr>
        <p:spPr>
          <a:xfrm flipH="1" rot="16200000">
            <a:off x="2421360" y="435888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3505320" y="51814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3 = 4 ( 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51814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8672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A =      +      +      +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579132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 96 in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5120" y="58672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71800" y="5867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5867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586728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719280"/>
            <a:ext cx="9144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 The base of a rectangular prism is 3 in. by 5 in., and the height is 11 in. Draw and label a net for the prism. Find its surface area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800600"/>
            <a:ext cx="914400" cy="685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2286000"/>
            <a:ext cx="914400" cy="685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2971800"/>
            <a:ext cx="91440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2971800"/>
            <a:ext cx="76212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2971800"/>
            <a:ext cx="91440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0400" y="2971800"/>
            <a:ext cx="685800" cy="1828800"/>
          </a:xfrm>
          <a:prstGeom prst="rect">
            <a:avLst/>
          </a:prstGeom>
          <a:solidFill>
            <a:srgbClr val="ffcc99">
              <a:alpha val="4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581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4800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54864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0" y="4800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4800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971800" y="5356080"/>
                <a:ext cx="48020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940040" y="6118200"/>
                <a:ext cx="58338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3201840" y="6118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7640" y="6118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3440" y="6118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328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136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07160" y="6118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219560" y="2590920"/>
                <a:ext cx="4556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180040" y="3505320"/>
                <a:ext cx="2519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324400" y="4267080"/>
                <a:ext cx="2712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410080" y="25909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25909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35053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838080" y="1828800"/>
            <a:ext cx="2133720" cy="1981080"/>
            <a:chOff x="838080" y="1828800"/>
            <a:chExt cx="2133720" cy="1981080"/>
          </a:xfrm>
        </p:grpSpPr>
        <p:sp>
          <p:nvSpPr>
            <p:cNvPr id="392" name=""/>
            <p:cNvSpPr/>
            <p:nvPr/>
          </p:nvSpPr>
          <p:spPr>
            <a:xfrm>
              <a:off x="838080" y="3276360"/>
              <a:ext cx="2133720" cy="533520"/>
            </a:xfrm>
            <a:prstGeom prst="parallelogram">
              <a:avLst>
                <a:gd name="adj" fmla="val 99983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38080" y="1828800"/>
              <a:ext cx="1600200" cy="1981080"/>
            </a:xfrm>
            <a:custGeom>
              <a:avLst/>
              <a:gdLst/>
              <a:ahLst/>
              <a:rect l="l" t="t" r="r" b="b"/>
              <a:pathLst>
                <a:path w="1008" h="1248">
                  <a:moveTo>
                    <a:pt x="0" y="1248"/>
                  </a:moveTo>
                  <a:lnTo>
                    <a:pt x="720" y="0"/>
                  </a:lnTo>
                  <a:lnTo>
                    <a:pt x="1008" y="124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8080" y="1828800"/>
              <a:ext cx="1143000" cy="1981080"/>
            </a:xfrm>
            <a:custGeom>
              <a:avLst/>
              <a:gdLst/>
              <a:ahLst/>
              <a:rect l="l" t="t" r="r" b="b"/>
              <a:pathLst>
                <a:path w="720" h="1248">
                  <a:moveTo>
                    <a:pt x="0" y="1248"/>
                  </a:moveTo>
                  <a:lnTo>
                    <a:pt x="336" y="912"/>
                  </a:lnTo>
                  <a:lnTo>
                    <a:pt x="720" y="0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600" y="1828800"/>
              <a:ext cx="1600200" cy="1447560"/>
            </a:xfrm>
            <a:custGeom>
              <a:avLst/>
              <a:gdLst/>
              <a:ahLst/>
              <a:rect l="l" t="t" r="r" b="b"/>
              <a:pathLst>
                <a:path w="1008" h="912">
                  <a:moveTo>
                    <a:pt x="0" y="912"/>
                  </a:moveTo>
                  <a:lnTo>
                    <a:pt x="384" y="0"/>
                  </a:lnTo>
                  <a:lnTo>
                    <a:pt x="1008" y="91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81080" y="1828800"/>
              <a:ext cx="990720" cy="1981080"/>
            </a:xfrm>
            <a:custGeom>
              <a:avLst/>
              <a:gdLst/>
              <a:ahLst/>
              <a:rect l="l" t="t" r="r" b="b"/>
              <a:pathLst>
                <a:path w="624" h="1248">
                  <a:moveTo>
                    <a:pt x="288" y="1248"/>
                  </a:moveTo>
                  <a:lnTo>
                    <a:pt x="0" y="0"/>
                  </a:lnTo>
                  <a:lnTo>
                    <a:pt x="624" y="912"/>
                  </a:lnTo>
                  <a:lnTo>
                    <a:pt x="288" y="1248"/>
                  </a:lnTo>
                  <a:close/>
                </a:path>
              </a:pathLst>
            </a:cu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334120" y="3276720"/>
            <a:ext cx="99036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809880" y="1752480"/>
            <a:ext cx="4038840" cy="4038840"/>
            <a:chOff x="3809880" y="1752480"/>
            <a:chExt cx="4038840" cy="4038840"/>
          </a:xfrm>
        </p:grpSpPr>
        <p:sp>
          <p:nvSpPr>
            <p:cNvPr id="399" name=""/>
            <p:cNvSpPr/>
            <p:nvPr/>
          </p:nvSpPr>
          <p:spPr>
            <a:xfrm>
              <a:off x="5334120" y="175248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5400000">
              <a:off x="6591240" y="300960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0800000">
              <a:off x="5333760" y="426708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6200000">
              <a:off x="4076640" y="3009240"/>
              <a:ext cx="990360" cy="1524240"/>
            </a:xfrm>
            <a:prstGeom prst="triangle">
              <a:avLst>
                <a:gd name="adj" fmla="val 500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4120" y="3276360"/>
            <a:ext cx="990360" cy="990720"/>
            <a:chOff x="5334120" y="3276360"/>
            <a:chExt cx="990360" cy="990720"/>
          </a:xfrm>
        </p:grpSpPr>
        <p:sp>
          <p:nvSpPr>
            <p:cNvPr id="404" name=""/>
            <p:cNvSpPr/>
            <p:nvPr/>
          </p:nvSpPr>
          <p:spPr>
            <a:xfrm>
              <a:off x="5334120" y="3276720"/>
              <a:ext cx="990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334120" y="3276360"/>
              <a:ext cx="990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620720" y="1828800"/>
            <a:ext cx="4218120" cy="3906720"/>
            <a:chOff x="1620720" y="1828800"/>
            <a:chExt cx="4218120" cy="3906720"/>
          </a:xfrm>
        </p:grpSpPr>
        <p:grpSp>
          <p:nvGrpSpPr>
            <p:cNvPr id="407" name=""/>
            <p:cNvGrpSpPr/>
            <p:nvPr/>
          </p:nvGrpSpPr>
          <p:grpSpPr>
            <a:xfrm>
              <a:off x="1620720" y="1828800"/>
              <a:ext cx="360360" cy="1981080"/>
              <a:chOff x="1620720" y="1828800"/>
              <a:chExt cx="360360" cy="1981080"/>
            </a:xfrm>
          </p:grpSpPr>
          <p:sp>
            <p:nvSpPr>
              <p:cNvPr id="408" name=""/>
              <p:cNvSpPr/>
              <p:nvPr/>
            </p:nvSpPr>
            <p:spPr>
              <a:xfrm>
                <a:off x="1620720" y="1828800"/>
                <a:ext cx="360360" cy="1981080"/>
              </a:xfrm>
              <a:custGeom>
                <a:avLst/>
                <a:gdLst/>
                <a:ahLst/>
                <a:rect l="l" t="t" r="r" b="b"/>
                <a:pathLst>
                  <a:path w="227" h="1248">
                    <a:moveTo>
                      <a:pt x="0" y="1248"/>
                    </a:moveTo>
                    <a:lnTo>
                      <a:pt x="22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76520" y="3581280"/>
                <a:ext cx="152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828800" y="3581280"/>
                <a:ext cx="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5837400" y="4255920"/>
              <a:ext cx="1440" cy="1479600"/>
            </a:xfrm>
            <a:custGeom>
              <a:avLst/>
              <a:gdLst/>
              <a:ahLst/>
              <a:rect l="l" t="t" r="r" b="b"/>
              <a:pathLst>
                <a:path w="1" h="932">
                  <a:moveTo>
                    <a:pt x="0" y="0"/>
                  </a:moveTo>
                  <a:lnTo>
                    <a:pt x="0" y="9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371600" y="3733920"/>
            <a:ext cx="4724280" cy="612000"/>
            <a:chOff x="1371600" y="3733920"/>
            <a:chExt cx="4724280" cy="612000"/>
          </a:xfrm>
        </p:grpSpPr>
        <p:sp>
          <p:nvSpPr>
            <p:cNvPr id="413" name=""/>
            <p:cNvSpPr/>
            <p:nvPr/>
          </p:nvSpPr>
          <p:spPr>
            <a:xfrm>
              <a:off x="5638680" y="3886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7160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752480" y="2743200"/>
            <a:ext cx="4419720" cy="2273040"/>
            <a:chOff x="1752480" y="2743200"/>
            <a:chExt cx="4419720" cy="2273040"/>
          </a:xfrm>
        </p:grpSpPr>
        <p:sp>
          <p:nvSpPr>
            <p:cNvPr id="416" name=""/>
            <p:cNvSpPr/>
            <p:nvPr/>
          </p:nvSpPr>
          <p:spPr>
            <a:xfrm>
              <a:off x="1752480" y="274320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44956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cript MT Bold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8" name=""/>
          <p:cNvGraphicFramePr/>
          <p:nvPr/>
        </p:nvGraphicFramePr>
        <p:xfrm>
          <a:off x="0" y="4038480"/>
          <a:ext cx="429912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429912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657600" y="4419720"/>
                <a:ext cx="1371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4191120" y="5715000"/>
          <a:ext cx="335736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715000"/>
                    <a:ext cx="335736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543800" y="5618160"/>
                <a:ext cx="590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0" y="5978520"/>
                <a:ext cx="11858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219320" y="5695920"/>
                <a:ext cx="1371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625840" y="5846760"/>
                <a:ext cx="973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mrol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500"/>
                            </p:stCondLst>
                            <p:childTnLst>
                              <p:par>
                                <p:cTn id="1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57200" y="990720"/>
            <a:ext cx="2438280" cy="2409840"/>
            <a:chOff x="457200" y="990720"/>
            <a:chExt cx="2438280" cy="2409840"/>
          </a:xfrm>
        </p:grpSpPr>
        <p:sp>
          <p:nvSpPr>
            <p:cNvPr id="430" name=""/>
            <p:cNvSpPr/>
            <p:nvPr/>
          </p:nvSpPr>
          <p:spPr>
            <a:xfrm>
              <a:off x="457200" y="990720"/>
              <a:ext cx="2438280" cy="1599840"/>
            </a:xfrm>
            <a:custGeom>
              <a:avLst/>
              <a:gdLst/>
              <a:ahLst/>
              <a:rect l="l" t="t" r="r" b="b"/>
              <a:pathLst>
                <a:path w="1536" h="1008">
                  <a:moveTo>
                    <a:pt x="0" y="1008"/>
                  </a:moveTo>
                  <a:lnTo>
                    <a:pt x="720" y="0"/>
                  </a:lnTo>
                  <a:lnTo>
                    <a:pt x="1536" y="1008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200" y="2438280"/>
              <a:ext cx="2438280" cy="380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3000" y="281916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029200" y="3352680"/>
            <a:ext cx="160020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3809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495680" y="1582560"/>
            <a:ext cx="2757600" cy="1828440"/>
            <a:chOff x="4495680" y="1582560"/>
            <a:chExt cx="2757600" cy="1828440"/>
          </a:xfrm>
        </p:grpSpPr>
        <p:sp>
          <p:nvSpPr>
            <p:cNvPr id="436" name=""/>
            <p:cNvSpPr/>
            <p:nvPr/>
          </p:nvSpPr>
          <p:spPr>
            <a:xfrm flipH="1">
              <a:off x="4495680" y="1582560"/>
              <a:ext cx="137160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67280" y="1582560"/>
              <a:ext cx="137160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8" name=""/>
            <p:cNvCxnSpPr>
              <a:stCxn id="436" idx="0"/>
              <a:endCxn id="437" idx="0"/>
            </p:cNvCxnSpPr>
            <p:nvPr/>
          </p:nvCxnSpPr>
          <p:spPr>
            <a:xfrm flipH="1" rot="16200000">
              <a:off x="5866200" y="1752840"/>
              <a:ext cx="2520" cy="2743920"/>
            </a:xfrm>
            <a:prstGeom prst="curvedConnector5">
              <a:avLst>
                <a:gd name="adj1" fmla="val 13300000"/>
                <a:gd name="adj2" fmla="val 49993"/>
                <a:gd name="adj3" fmla="val 133000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439" name=""/>
            <p:cNvSpPr/>
            <p:nvPr/>
          </p:nvSpPr>
          <p:spPr>
            <a:xfrm>
              <a:off x="4495680" y="1600200"/>
              <a:ext cx="2757600" cy="1752480"/>
            </a:xfrm>
            <a:custGeom>
              <a:avLst/>
              <a:gdLst/>
              <a:ahLst/>
              <a:rect l="l" t="t" r="r" b="b"/>
              <a:pathLst>
                <a:path w="1737" h="1104">
                  <a:moveTo>
                    <a:pt x="0" y="960"/>
                  </a:moveTo>
                  <a:lnTo>
                    <a:pt x="864" y="0"/>
                  </a:lnTo>
                  <a:cubicBezTo>
                    <a:pt x="1152" y="320"/>
                    <a:pt x="1450" y="632"/>
                    <a:pt x="1728" y="960"/>
                  </a:cubicBezTo>
                  <a:cubicBezTo>
                    <a:pt x="1737" y="971"/>
                    <a:pt x="1699" y="964"/>
                    <a:pt x="1687" y="971"/>
                  </a:cubicBezTo>
                  <a:cubicBezTo>
                    <a:pt x="1683" y="973"/>
                    <a:pt x="1687" y="980"/>
                    <a:pt x="1687" y="984"/>
                  </a:cubicBezTo>
                  <a:lnTo>
                    <a:pt x="1440" y="1056"/>
                  </a:lnTo>
                  <a:lnTo>
                    <a:pt x="1104" y="1104"/>
                  </a:lnTo>
                  <a:lnTo>
                    <a:pt x="672" y="1104"/>
                  </a:lnTo>
                  <a:lnTo>
                    <a:pt x="336" y="1056"/>
                  </a:lnTo>
                  <a:lnTo>
                    <a:pt x="144" y="1008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0" name=""/>
          <p:cNvGraphicFramePr/>
          <p:nvPr/>
        </p:nvGraphicFramePr>
        <p:xfrm>
          <a:off x="685800" y="4191120"/>
          <a:ext cx="1701720" cy="5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91120"/>
                    <a:ext cx="170172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42" name=""/>
          <p:cNvCxnSpPr>
            <a:stCxn id="439" idx="0"/>
          </p:cNvCxnSpPr>
          <p:nvPr/>
        </p:nvCxnSpPr>
        <p:spPr>
          <a:xfrm flipV="1" rot="10800000">
            <a:off x="685080" y="3122640"/>
            <a:ext cx="3810600" cy="1321200"/>
          </a:xfrm>
          <a:prstGeom prst="curvedConnector5">
            <a:avLst>
              <a:gd name="adj1" fmla="val 105999"/>
              <a:gd name="adj2" fmla="val 49986"/>
              <a:gd name="adj3" fmla="val 10599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443" name=""/>
          <p:cNvGraphicFramePr/>
          <p:nvPr/>
        </p:nvGraphicFramePr>
        <p:xfrm>
          <a:off x="2438280" y="4114800"/>
          <a:ext cx="97308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114800"/>
                    <a:ext cx="9730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6781680" y="3581280"/>
          <a:ext cx="170208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3581280"/>
                    <a:ext cx="17020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7238880" y="4038480"/>
          <a:ext cx="93672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4038480"/>
                    <a:ext cx="9367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1981080" y="5715000"/>
          <a:ext cx="118584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71500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3276720" y="5486400"/>
          <a:ext cx="2666880" cy="81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486400"/>
                    <a:ext cx="26668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762120" y="1371600"/>
            <a:ext cx="2361960" cy="2516400"/>
            <a:chOff x="762120" y="1371600"/>
            <a:chExt cx="2361960" cy="2516400"/>
          </a:xfrm>
        </p:grpSpPr>
        <p:sp>
          <p:nvSpPr>
            <p:cNvPr id="456" name=""/>
            <p:cNvSpPr/>
            <p:nvPr/>
          </p:nvSpPr>
          <p:spPr>
            <a:xfrm>
              <a:off x="990360" y="1371600"/>
              <a:ext cx="2057040" cy="1981080"/>
            </a:xfrm>
            <a:prstGeom prst="ellipse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90360" y="2209680"/>
              <a:ext cx="2057040" cy="38124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2120" y="330660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phe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9" name=""/>
          <p:cNvGraphicFramePr/>
          <p:nvPr/>
        </p:nvGraphicFramePr>
        <p:xfrm>
          <a:off x="4114800" y="2133720"/>
          <a:ext cx="1185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13372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5486400" y="1905120"/>
          <a:ext cx="148752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05120"/>
                    <a:ext cx="148752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666880" y="3124080"/>
                <a:ext cx="553896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surface area of each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09480" y="1828800"/>
            <a:ext cx="2057400" cy="3124080"/>
            <a:chOff x="609480" y="1828800"/>
            <a:chExt cx="2057400" cy="3124080"/>
          </a:xfrm>
        </p:grpSpPr>
        <p:grpSp>
          <p:nvGrpSpPr>
            <p:cNvPr id="468" name=""/>
            <p:cNvGrpSpPr/>
            <p:nvPr/>
          </p:nvGrpSpPr>
          <p:grpSpPr>
            <a:xfrm>
              <a:off x="609480" y="1828800"/>
              <a:ext cx="2057400" cy="3124080"/>
              <a:chOff x="609480" y="1828800"/>
              <a:chExt cx="2057400" cy="3124080"/>
            </a:xfrm>
          </p:grpSpPr>
          <p:sp>
            <p:nvSpPr>
              <p:cNvPr id="469" name=""/>
              <p:cNvSpPr/>
              <p:nvPr/>
            </p:nvSpPr>
            <p:spPr>
              <a:xfrm>
                <a:off x="609480" y="3352680"/>
                <a:ext cx="2057400" cy="1600200"/>
              </a:xfrm>
              <a:custGeom>
                <a:avLst/>
                <a:gdLst/>
                <a:ahLst/>
                <a:rect l="l" t="t" r="r" b="b"/>
                <a:pathLst>
                  <a:path w="1296" h="1008">
                    <a:moveTo>
                      <a:pt x="0" y="240"/>
                    </a:moveTo>
                    <a:lnTo>
                      <a:pt x="528" y="1008"/>
                    </a:lnTo>
                    <a:lnTo>
                      <a:pt x="1296" y="768"/>
                    </a:lnTo>
                    <a:lnTo>
                      <a:pt x="768" y="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480" y="1828800"/>
                <a:ext cx="1143000" cy="3124080"/>
              </a:xfrm>
              <a:custGeom>
                <a:avLst/>
                <a:gdLst/>
                <a:ahLst/>
                <a:rect l="l" t="t" r="r" b="b"/>
                <a:pathLst>
                  <a:path w="720" h="1968">
                    <a:moveTo>
                      <a:pt x="0" y="1200"/>
                    </a:moveTo>
                    <a:lnTo>
                      <a:pt x="528" y="1968"/>
                    </a:lnTo>
                    <a:lnTo>
                      <a:pt x="720" y="0"/>
                    </a:lnTo>
                    <a:lnTo>
                      <a:pt x="0" y="120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09480" y="1828800"/>
                <a:ext cx="1219320" cy="1905120"/>
              </a:xfrm>
              <a:custGeom>
                <a:avLst/>
                <a:gdLst/>
                <a:ahLst/>
                <a:rect l="l" t="t" r="r" b="b"/>
                <a:pathLst>
                  <a:path w="768" h="1200">
                    <a:moveTo>
                      <a:pt x="0" y="1200"/>
                    </a:moveTo>
                    <a:lnTo>
                      <a:pt x="768" y="960"/>
                    </a:lnTo>
                    <a:lnTo>
                      <a:pt x="720" y="0"/>
                    </a:lnTo>
                    <a:lnTo>
                      <a:pt x="0" y="120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752480" y="1828800"/>
                <a:ext cx="914400" cy="2743200"/>
              </a:xfrm>
              <a:custGeom>
                <a:avLst/>
                <a:gdLst/>
                <a:ahLst/>
                <a:rect l="l" t="t" r="r" b="b"/>
                <a:pathLst>
                  <a:path w="576" h="1728">
                    <a:moveTo>
                      <a:pt x="48" y="960"/>
                    </a:moveTo>
                    <a:lnTo>
                      <a:pt x="576" y="1728"/>
                    </a:lnTo>
                    <a:lnTo>
                      <a:pt x="0" y="0"/>
                    </a:lnTo>
                    <a:lnTo>
                      <a:pt x="48" y="960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447920" y="1828800"/>
                <a:ext cx="1218960" cy="3124080"/>
              </a:xfrm>
              <a:custGeom>
                <a:avLst/>
                <a:gdLst/>
                <a:ahLst/>
                <a:rect l="l" t="t" r="r" b="b"/>
                <a:pathLst>
                  <a:path w="768" h="1968">
                    <a:moveTo>
                      <a:pt x="0" y="1968"/>
                    </a:moveTo>
                    <a:lnTo>
                      <a:pt x="768" y="1728"/>
                    </a:lnTo>
                    <a:lnTo>
                      <a:pt x="192" y="0"/>
                    </a:lnTo>
                    <a:lnTo>
                      <a:pt x="0" y="1968"/>
                    </a:lnTo>
                    <a:close/>
                  </a:path>
                </a:pathLst>
              </a:custGeom>
              <a:solidFill>
                <a:srgbClr val="ff660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762120" y="1981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752480" y="1905120"/>
            <a:ext cx="38124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828440" y="4419720"/>
            <a:ext cx="228600" cy="425160"/>
            <a:chOff x="1828440" y="4419720"/>
            <a:chExt cx="228600" cy="425160"/>
          </a:xfrm>
        </p:grpSpPr>
        <p:sp>
          <p:nvSpPr>
            <p:cNvPr id="477" name=""/>
            <p:cNvSpPr/>
            <p:nvPr/>
          </p:nvSpPr>
          <p:spPr>
            <a:xfrm flipH="1">
              <a:off x="1828440" y="4419720"/>
              <a:ext cx="228600" cy="7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28800" y="4495680"/>
              <a:ext cx="36360" cy="349200"/>
            </a:xfrm>
            <a:custGeom>
              <a:avLst/>
              <a:gdLst/>
              <a:ahLst/>
              <a:rect l="l" t="t" r="r" b="b"/>
              <a:pathLst>
                <a:path w="23" h="220">
                  <a:moveTo>
                    <a:pt x="0" y="0"/>
                  </a:moveTo>
                  <a:lnTo>
                    <a:pt x="23" y="22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80880" y="2209680"/>
            <a:ext cx="2895840" cy="2441160"/>
            <a:chOff x="380880" y="2209680"/>
            <a:chExt cx="2895840" cy="2441160"/>
          </a:xfrm>
        </p:grpSpPr>
        <p:sp>
          <p:nvSpPr>
            <p:cNvPr id="480" name=""/>
            <p:cNvSpPr/>
            <p:nvPr/>
          </p:nvSpPr>
          <p:spPr>
            <a:xfrm>
              <a:off x="380880" y="4191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9092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"/>
            <p:cNvCxnSpPr/>
            <p:nvPr/>
          </p:nvCxnSpPr>
          <p:spPr>
            <a:xfrm flipH="1">
              <a:off x="1980720" y="2514600"/>
              <a:ext cx="610560" cy="10864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83" name=""/>
          <p:cNvSpPr/>
          <p:nvPr/>
        </p:nvSpPr>
        <p:spPr>
          <a:xfrm>
            <a:off x="5029200" y="3429000"/>
            <a:ext cx="83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67280" y="342900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315200" y="342900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91120" y="457200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76920" y="457200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2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52680" y="5410080"/>
            <a:ext cx="3353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= 105 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505320" y="1828800"/>
                <a:ext cx="373356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124080" y="4648320"/>
                <a:ext cx="1395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 flipH="1">
            <a:off x="929520" y="4286520"/>
            <a:ext cx="198000" cy="11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072520" y="3753000"/>
            <a:ext cx="198000" cy="11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62440" y="3444120"/>
            <a:ext cx="114120" cy="19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00520" y="4663440"/>
            <a:ext cx="114120" cy="19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9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mrol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surface area of each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533520" y="1905120"/>
            <a:ext cx="2743200" cy="2895480"/>
            <a:chOff x="533520" y="1905120"/>
            <a:chExt cx="2743200" cy="2895480"/>
          </a:xfrm>
        </p:grpSpPr>
        <p:sp>
          <p:nvSpPr>
            <p:cNvPr id="499" name=""/>
            <p:cNvSpPr/>
            <p:nvPr/>
          </p:nvSpPr>
          <p:spPr>
            <a:xfrm>
              <a:off x="609480" y="1905120"/>
              <a:ext cx="2362320" cy="2361960"/>
            </a:xfrm>
            <a:custGeom>
              <a:avLst/>
              <a:gdLst/>
              <a:ahLst/>
              <a:rect l="l" t="t" r="r" b="b"/>
              <a:pathLst>
                <a:path w="1488" h="1488">
                  <a:moveTo>
                    <a:pt x="0" y="1488"/>
                  </a:moveTo>
                  <a:lnTo>
                    <a:pt x="816" y="0"/>
                  </a:lnTo>
                  <a:lnTo>
                    <a:pt x="1488" y="1488"/>
                  </a:lnTo>
                  <a:lnTo>
                    <a:pt x="0" y="1488"/>
                  </a:lnTo>
                  <a:close/>
                </a:path>
              </a:pathLst>
            </a:custGeom>
            <a:solidFill>
              <a:srgbClr val="ff9966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9480" y="3809880"/>
              <a:ext cx="2362320" cy="9907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52480" y="43434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3520" y="2133720"/>
              <a:ext cx="68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05120" y="388620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cc"/>
                  </a:solidFill>
                  <a:latin typeface="Times New Roman"/>
                </a:rPr>
                <a:t>3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62320" y="2666880"/>
              <a:ext cx="91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7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3352680" y="3352680"/>
                <a:ext cx="5791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358128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343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229600" y="3505320"/>
            <a:ext cx="53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876840" y="4191120"/>
                <a:ext cx="4611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40384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530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5780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772400" y="419112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495288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65.9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43600" y="4952880"/>
            <a:ext cx="2057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 28.2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5638680"/>
            <a:ext cx="2590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94.2  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4800600" y="26668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809880" y="1905120"/>
                <a:ext cx="4103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rℓ</m:t>
                    </m:r>
                    <m:r>
                      <m:t xml:space="preserve">+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ow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2962080" cy="26143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surface area of each fig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220968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133720" y="2057400"/>
            <a:ext cx="2971800" cy="1371600"/>
            <a:chOff x="2133720" y="2057400"/>
            <a:chExt cx="2971800" cy="1371600"/>
          </a:xfrm>
        </p:grpSpPr>
        <p:sp>
          <p:nvSpPr>
            <p:cNvPr id="527" name=""/>
            <p:cNvSpPr/>
            <p:nvPr/>
          </p:nvSpPr>
          <p:spPr>
            <a:xfrm>
              <a:off x="2133720" y="3429000"/>
              <a:ext cx="1218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52680" y="2057400"/>
              <a:ext cx="1752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,963 mi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" name=""/>
            <p:cNvCxnSpPr>
              <a:stCxn id="528" idx="1"/>
            </p:cNvCxnSpPr>
            <p:nvPr/>
          </p:nvCxnSpPr>
          <p:spPr>
            <a:xfrm flipV="1" rot="10800000">
              <a:off x="2590200" y="2331720"/>
              <a:ext cx="762480" cy="10324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029200" y="3200400"/>
                <a:ext cx="37893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5486400" y="3352680"/>
            <a:ext cx="12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335268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,963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67080" y="434340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867280" y="434340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5,705,36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57600" y="533412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97,259,434.6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mi</a:t>
            </a:r>
            <a:r>
              <a:rPr b="1" lang="en-US" sz="40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9480" y="239544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5943600" y="2209680"/>
                <a:ext cx="15238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809880" y="3429000"/>
                <a:ext cx="13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3886200" y="4267080"/>
                <a:ext cx="47242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733920" y="2209680"/>
            <a:ext cx="1676160" cy="2743200"/>
            <a:chOff x="3733920" y="2209680"/>
            <a:chExt cx="1676160" cy="2743200"/>
          </a:xfrm>
        </p:grpSpPr>
        <p:sp>
          <p:nvSpPr>
            <p:cNvPr id="70" name=""/>
            <p:cNvSpPr/>
            <p:nvPr/>
          </p:nvSpPr>
          <p:spPr>
            <a:xfrm>
              <a:off x="3733920" y="2209680"/>
              <a:ext cx="1676160" cy="2743200"/>
            </a:xfrm>
            <a:prstGeom prst="can">
              <a:avLst>
                <a:gd name="adj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33920" y="4267080"/>
              <a:ext cx="1676160" cy="68580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572000" y="28954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2895480"/>
            <a:ext cx="4495680" cy="20574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733920" y="1295280"/>
            <a:ext cx="1600200" cy="5257800"/>
            <a:chOff x="3733920" y="1295280"/>
            <a:chExt cx="1600200" cy="5257800"/>
          </a:xfrm>
        </p:grpSpPr>
        <p:sp>
          <p:nvSpPr>
            <p:cNvPr id="75" name=""/>
            <p:cNvSpPr/>
            <p:nvPr/>
          </p:nvSpPr>
          <p:spPr>
            <a:xfrm>
              <a:off x="3733920" y="1295280"/>
              <a:ext cx="1600200" cy="1600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33920" y="4952880"/>
              <a:ext cx="1600200" cy="160020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914400" y="2514600"/>
            <a:ext cx="1600200" cy="274320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14400" y="2362320"/>
            <a:ext cx="1600200" cy="304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14400" y="2514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3581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1905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3809880" y="2057400"/>
          <a:ext cx="1185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05740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105520" y="1828800"/>
          <a:ext cx="26668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828800"/>
                    <a:ext cx="26668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3352680" y="3352680"/>
                <a:ext cx="5791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358128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9343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724280" y="35053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35053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077320" y="3505320"/>
            <a:ext cx="685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808440" y="4191120"/>
                <a:ext cx="48718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40384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53080" y="419112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419112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0120" y="419112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00600" y="495288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94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4952880"/>
            <a:ext cx="2057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 3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105520" y="5638680"/>
            <a:ext cx="2590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256  cm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4800600" y="26668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2700"/>
                            </p:stCondLst>
                            <p:childTnLst>
                              <p:par>
                                <p:cTn id="1675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67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7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4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6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3962520" y="4267080"/>
                <a:ext cx="366696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2133720"/>
            <a:ext cx="9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2133720" y="1904760"/>
            <a:ext cx="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160020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9 c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73" idx="1"/>
          </p:cNvCxnSpPr>
          <p:nvPr/>
        </p:nvCxnSpPr>
        <p:spPr>
          <a:xfrm flipV="1" rot="10800000">
            <a:off x="2133000" y="1873800"/>
            <a:ext cx="1600920" cy="640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029200" y="3200400"/>
                <a:ext cx="30607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5486400" y="3352680"/>
            <a:ext cx="12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10280" y="335268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659480" y="239544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943600" y="2209680"/>
                <a:ext cx="15238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09880" y="3429000"/>
                <a:ext cx="13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4267080" y="4343400"/>
            <a:ext cx="152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77120" y="4343400"/>
            <a:ext cx="838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72000" y="5257800"/>
            <a:ext cx="312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,017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cm</a:t>
            </a:r>
            <a:r>
              <a:rPr b="1" lang="en-US" sz="40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2" dur="indefinite" restart="never" nodeType="tmRoot">
          <p:childTnLst>
            <p:seq>
              <p:cTn id="1793" dur="indefinite" nodeType="mainSeq">
                <p:childTnLst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87480" y="2627280"/>
            <a:ext cx="3033720" cy="942840"/>
          </a:xfrm>
          <a:custGeom>
            <a:avLst/>
            <a:gdLst/>
            <a:ahLst/>
            <a:rect l="l" t="t" r="r" b="b"/>
            <a:pathLst>
              <a:path w="1911" h="594">
                <a:moveTo>
                  <a:pt x="0" y="457"/>
                </a:moveTo>
                <a:lnTo>
                  <a:pt x="1911" y="0"/>
                </a:lnTo>
                <a:lnTo>
                  <a:pt x="621" y="594"/>
                </a:lnTo>
                <a:lnTo>
                  <a:pt x="0" y="457"/>
                </a:lnTo>
                <a:close/>
              </a:path>
            </a:pathLst>
          </a:custGeom>
          <a:solidFill>
            <a:srgbClr val="ff9999">
              <a:alpha val="40000"/>
            </a:srgbClr>
          </a:solidFill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73080" y="2192400"/>
            <a:ext cx="3105360" cy="1160280"/>
          </a:xfrm>
          <a:custGeom>
            <a:avLst/>
            <a:gdLst/>
            <a:ahLst/>
            <a:rect l="l" t="t" r="r" b="b"/>
            <a:pathLst>
              <a:path w="1956" h="731">
                <a:moveTo>
                  <a:pt x="0" y="0"/>
                </a:moveTo>
                <a:lnTo>
                  <a:pt x="0" y="731"/>
                </a:lnTo>
                <a:lnTo>
                  <a:pt x="1956" y="274"/>
                </a:lnTo>
                <a:lnTo>
                  <a:pt x="0" y="0"/>
                </a:lnTo>
                <a:close/>
              </a:path>
            </a:pathLst>
          </a:custGeom>
          <a:solidFill>
            <a:srgbClr val="ff9999">
              <a:alpha val="30000"/>
            </a:srgbClr>
          </a:solidFill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 rot="16200000">
            <a:off x="799200" y="2400120"/>
            <a:ext cx="1371600" cy="990360"/>
          </a:xfrm>
          <a:prstGeom prst="parallelogram">
            <a:avLst>
              <a:gd name="adj" fmla="val 21473"/>
            </a:avLst>
          </a:prstGeom>
          <a:solidFill>
            <a:srgbClr val="ff9999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87480" y="2192400"/>
            <a:ext cx="3076560" cy="434880"/>
          </a:xfrm>
          <a:custGeom>
            <a:avLst/>
            <a:gdLst/>
            <a:ahLst/>
            <a:rect l="l" t="t" r="r" b="b"/>
            <a:pathLst>
              <a:path w="1938" h="274">
                <a:moveTo>
                  <a:pt x="0" y="0"/>
                </a:moveTo>
                <a:lnTo>
                  <a:pt x="1938" y="274"/>
                </a:lnTo>
                <a:lnTo>
                  <a:pt x="621" y="137"/>
                </a:lnTo>
                <a:lnTo>
                  <a:pt x="0" y="0"/>
                </a:lnTo>
                <a:close/>
              </a:path>
            </a:pathLst>
          </a:custGeom>
          <a:solidFill>
            <a:srgbClr val="ff9999">
              <a:alpha val="50000"/>
            </a:srgbClr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73160" y="2409840"/>
            <a:ext cx="2076480" cy="1160280"/>
          </a:xfrm>
          <a:custGeom>
            <a:avLst/>
            <a:gdLst/>
            <a:ahLst/>
            <a:rect l="l" t="t" r="r" b="b"/>
            <a:pathLst>
              <a:path w="1308" h="731">
                <a:moveTo>
                  <a:pt x="0" y="731"/>
                </a:moveTo>
                <a:lnTo>
                  <a:pt x="0" y="0"/>
                </a:lnTo>
                <a:lnTo>
                  <a:pt x="1308" y="128"/>
                </a:lnTo>
                <a:lnTo>
                  <a:pt x="0" y="731"/>
                </a:lnTo>
                <a:close/>
              </a:path>
            </a:pathLst>
          </a:custGeom>
          <a:solidFill>
            <a:srgbClr val="ff9999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6080" y="1828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495440" y="2220840"/>
            <a:ext cx="0" cy="23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401840" y="3344760"/>
            <a:ext cx="0" cy="2318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859040" y="2989440"/>
            <a:ext cx="2318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877680" y="2808360"/>
            <a:ext cx="231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1972800" y="2641680"/>
            <a:ext cx="20322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74960" y="2655720"/>
            <a:ext cx="203040" cy="20340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97320" y="134784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5.5 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9" name=""/>
          <p:cNvCxnSpPr>
            <a:stCxn id="598" idx="1"/>
          </p:cNvCxnSpPr>
          <p:nvPr/>
        </p:nvCxnSpPr>
        <p:spPr>
          <a:xfrm flipV="1" rot="10800000">
            <a:off x="2634480" y="1622160"/>
            <a:ext cx="762840" cy="10324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"/>
          <p:cNvSpPr/>
          <p:nvPr/>
        </p:nvSpPr>
        <p:spPr>
          <a:xfrm>
            <a:off x="871560" y="3406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3321000" y="3618000"/>
                <a:ext cx="55389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5683320" y="3922560"/>
            <a:ext cx="83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32400" y="3922560"/>
            <a:ext cx="790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969320" y="392256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44880" y="506556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530680" y="506556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1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06800" y="5904000"/>
            <a:ext cx="3352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= 60 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159080" y="2322360"/>
                <a:ext cx="373392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3778200" y="51418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4" dur="indefinite" restart="never" nodeType="tmRoot">
          <p:childTnLst>
            <p:seq>
              <p:cTn id="1875" dur="indefinite" nodeType="mainSeq">
                <p:childTnLst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2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0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2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6080" y="1698480"/>
            <a:ext cx="882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ase of a cone has radius 3 ft. Its slant  height is 8 ft. Find the surface area of the c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343240" y="3017880"/>
          <a:ext cx="11858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3240" y="3017880"/>
                    <a:ext cx="1185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3492360" y="2760840"/>
          <a:ext cx="266724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760840"/>
                    <a:ext cx="266724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1711440" y="3559320"/>
                <a:ext cx="5790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>
            <a:off x="1911240" y="368316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92720" y="368316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56120" y="3683160"/>
            <a:ext cx="826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051440" y="3668760"/>
            <a:ext cx="637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80080" y="3666960"/>
            <a:ext cx="685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166840" y="4368960"/>
                <a:ext cx="4872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2397240" y="436896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911840" y="4368960"/>
            <a:ext cx="12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65440" y="4368960"/>
            <a:ext cx="798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238800" y="4383000"/>
            <a:ext cx="581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86280" y="513072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75.3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02000" y="5130720"/>
            <a:ext cx="2057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 28.2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63920" y="5816520"/>
            <a:ext cx="2590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104  ft</a:t>
            </a:r>
            <a:r>
              <a:rPr b="1" lang="en-US" sz="36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60520" y="37432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8" dur="indefinite" restart="never" nodeType="tmRoot">
          <p:childTnLst>
            <p:seq>
              <p:cTn id="1969" dur="indefinite" nodeType="mainSeq">
                <p:childTnLst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4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5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6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surface area of each space figure,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1698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ngth of the base of a square pyramid is 5 cm. Its slant height is 8 cm. Find the surface area of the square pyram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2100240" y="3900600"/>
                <a:ext cx="55389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6" name=""/>
          <p:cNvSpPr/>
          <p:nvPr/>
        </p:nvSpPr>
        <p:spPr>
          <a:xfrm>
            <a:off x="4462560" y="4205160"/>
            <a:ext cx="83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241960" y="4191120"/>
            <a:ext cx="51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748560" y="4205160"/>
            <a:ext cx="45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24120" y="5348160"/>
            <a:ext cx="91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09920" y="534816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+ 2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86040" y="6186600"/>
            <a:ext cx="3352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= 105 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2938320" y="2604960"/>
                <a:ext cx="373392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557440" y="5424480"/>
                <a:ext cx="1395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8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9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rick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798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has the greater surface area, a cylinder with height 2 in. and radius of base 2 in., or a sphere with radius 2 in.? Justify your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3560" y="2786040"/>
            <a:ext cx="2467080" cy="1582920"/>
          </a:xfrm>
          <a:prstGeom prst="can">
            <a:avLst>
              <a:gd name="adj" fmla="val 25000"/>
            </a:avLst>
          </a:prstGeom>
          <a:solidFill>
            <a:srgbClr val="00ff0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755360" y="2975040"/>
            <a:ext cx="11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73240" y="3333600"/>
            <a:ext cx="8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36880" y="2311560"/>
            <a:ext cx="8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3560" y="2975040"/>
            <a:ext cx="2452680" cy="2452680"/>
          </a:xfrm>
          <a:prstGeom prst="ellipse">
            <a:avLst/>
          </a:prstGeom>
          <a:solidFill>
            <a:srgbClr val="d60093">
              <a:alpha val="4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93560" y="4076640"/>
            <a:ext cx="2467080" cy="276120"/>
          </a:xfrm>
          <a:prstGeom prst="ellipse">
            <a:avLst/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1763280" y="4214880"/>
            <a:ext cx="1190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043000" y="2305080"/>
            <a:ext cx="8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43369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495144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  )(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871640" y="5027760"/>
            <a:ext cx="5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30360" y="5013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73480" y="504180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5470560"/>
            <a:ext cx="596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)(      ) + (  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371600" y="5546880"/>
            <a:ext cx="6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4160" y="55483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0920" y="554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59480" y="554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6320" y="6156360"/>
            <a:ext cx="62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5.12 + 25.12 = 50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38680" y="6156360"/>
            <a:ext cx="24382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637320" y="5388120"/>
                <a:ext cx="23828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302520" y="2054160"/>
                <a:ext cx="2476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8" name=""/>
          <p:cNvSpPr/>
          <p:nvPr/>
        </p:nvSpPr>
        <p:spPr>
          <a:xfrm>
            <a:off x="6684840" y="2147760"/>
            <a:ext cx="1219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866000" y="2162160"/>
            <a:ext cx="871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5675400" y="168588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6959520" y="1500120"/>
                <a:ext cx="1524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110200" y="2224080"/>
                <a:ext cx="13460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"/>
          <p:cNvSpPr/>
          <p:nvPr/>
        </p:nvSpPr>
        <p:spPr>
          <a:xfrm>
            <a:off x="6707160" y="5403960"/>
            <a:ext cx="1523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12.56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305920" y="5402160"/>
            <a:ext cx="838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40600" y="6004080"/>
            <a:ext cx="1774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33cc"/>
                </a:solidFill>
                <a:latin typeface="Times New Roman"/>
              </a:rPr>
              <a:t>50 </a:t>
            </a: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1" lang="en-US" sz="40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6" dur="indefinite" restart="never" nodeType="tmRoot">
          <p:childTnLst>
            <p:seq>
              <p:cTn id="2117" dur="indefinite" nodeType="mainSeq">
                <p:childTnLst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2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3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4" dur="8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2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5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animMotion origin="layout" path="M 0 0 L 0.45712 0 E">
                                      <p:cBhvr>
                                        <p:cTn id="2156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animMotion origin="layout" path="M 0 0 L 0.45712 0 E">
                                      <p:cBhvr>
                                        <p:cTn id="2158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animMotion origin="layout" path="M 0 0 L 0.45712 0 E">
                                      <p:cBhvr>
                                        <p:cTn id="216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animMotion origin="layout" path="M -4.16667E-006 -3.46821E-006 L 0.44757 0.19237 E">
                                      <p:cBhvr>
                                        <p:cTn id="2162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beeps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6  10 – 6 #1 – 6, 7 – 1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" y="1219320"/>
            <a:ext cx="4495680" cy="5257800"/>
            <a:chOff x="457200" y="1219320"/>
            <a:chExt cx="4495680" cy="5257800"/>
          </a:xfrm>
        </p:grpSpPr>
        <p:sp>
          <p:nvSpPr>
            <p:cNvPr id="80" name=""/>
            <p:cNvSpPr/>
            <p:nvPr/>
          </p:nvSpPr>
          <p:spPr>
            <a:xfrm>
              <a:off x="457200" y="2819520"/>
              <a:ext cx="4495680" cy="205740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828800" y="1219320"/>
              <a:ext cx="1600200" cy="5257800"/>
              <a:chOff x="1828800" y="1219320"/>
              <a:chExt cx="1600200" cy="5257800"/>
            </a:xfrm>
          </p:grpSpPr>
          <p:sp>
            <p:nvSpPr>
              <p:cNvPr id="82" name=""/>
              <p:cNvSpPr/>
              <p:nvPr/>
            </p:nvSpPr>
            <p:spPr>
              <a:xfrm>
                <a:off x="1828800" y="1219320"/>
                <a:ext cx="1600200" cy="16002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28800" y="4876920"/>
                <a:ext cx="1600200" cy="160020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2590920" y="1676520"/>
            <a:ext cx="838080" cy="520560"/>
            <a:chOff x="2590920" y="1676520"/>
            <a:chExt cx="838080" cy="520560"/>
          </a:xfrm>
        </p:grpSpPr>
        <p:sp>
          <p:nvSpPr>
            <p:cNvPr id="85" name=""/>
            <p:cNvSpPr/>
            <p:nvPr/>
          </p:nvSpPr>
          <p:spPr>
            <a:xfrm flipH="1">
              <a:off x="2590920" y="20574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16765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429000" y="1752480"/>
            <a:ext cx="5715000" cy="581400"/>
            <a:chOff x="3429000" y="1752480"/>
            <a:chExt cx="5715000" cy="581400"/>
          </a:xfrm>
        </p:grpSpPr>
        <p:sp>
          <p:nvSpPr>
            <p:cNvPr id="88" name=""/>
            <p:cNvSpPr/>
            <p:nvPr/>
          </p:nvSpPr>
          <p:spPr>
            <a:xfrm>
              <a:off x="5334120" y="17524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rea of circle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5" idx="0"/>
              <a:endCxn id="88" idx="1"/>
            </p:cNvCxnSpPr>
            <p:nvPr/>
          </p:nvCxnSpPr>
          <p:spPr>
            <a:xfrm flipV="1">
              <a:off x="3429000" y="2042640"/>
              <a:ext cx="1905840" cy="15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0" name=""/>
          <p:cNvGrpSpPr/>
          <p:nvPr/>
        </p:nvGrpSpPr>
        <p:grpSpPr>
          <a:xfrm>
            <a:off x="3429000" y="5410080"/>
            <a:ext cx="5715000" cy="581400"/>
            <a:chOff x="3429000" y="5410080"/>
            <a:chExt cx="5715000" cy="581400"/>
          </a:xfrm>
        </p:grpSpPr>
        <p:sp>
          <p:nvSpPr>
            <p:cNvPr id="91" name=""/>
            <p:cNvSpPr/>
            <p:nvPr/>
          </p:nvSpPr>
          <p:spPr>
            <a:xfrm>
              <a:off x="53341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rea of circle =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" name=""/>
            <p:cNvCxnSpPr>
              <a:endCxn id="91" idx="1"/>
            </p:cNvCxnSpPr>
            <p:nvPr/>
          </p:nvCxnSpPr>
          <p:spPr>
            <a:xfrm flipV="1">
              <a:off x="3429000" y="5700240"/>
              <a:ext cx="1905840" cy="15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3" name=""/>
          <p:cNvGrpSpPr/>
          <p:nvPr/>
        </p:nvGrpSpPr>
        <p:grpSpPr>
          <a:xfrm>
            <a:off x="5181480" y="2743200"/>
            <a:ext cx="4419720" cy="2653560"/>
            <a:chOff x="5181480" y="2743200"/>
            <a:chExt cx="4419720" cy="2653560"/>
          </a:xfrm>
        </p:grpSpPr>
        <p:sp>
          <p:nvSpPr>
            <p:cNvPr id="94" name=""/>
            <p:cNvSpPr/>
            <p:nvPr/>
          </p:nvSpPr>
          <p:spPr>
            <a:xfrm>
              <a:off x="5181480" y="2743200"/>
              <a:ext cx="39625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rea of rectangle = l x w where the length is the circumference of the circle and the width is the height.    A = d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h or 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15200" y="43434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 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419720" y="3505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615636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WHOOSH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surface area of the following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57200" y="1905120"/>
            <a:ext cx="4572000" cy="1983600"/>
            <a:chOff x="457200" y="1905120"/>
            <a:chExt cx="4572000" cy="1983600"/>
          </a:xfrm>
        </p:grpSpPr>
        <p:sp>
          <p:nvSpPr>
            <p:cNvPr id="102" name=""/>
            <p:cNvSpPr/>
            <p:nvPr/>
          </p:nvSpPr>
          <p:spPr>
            <a:xfrm>
              <a:off x="685800" y="2286000"/>
              <a:ext cx="3276720" cy="1219320"/>
            </a:xfrm>
            <a:custGeom>
              <a:avLst/>
              <a:gdLst/>
              <a:ahLst/>
              <a:rect l="l" t="t" r="r" b="b"/>
              <a:pathLst>
                <a:path w="2064" h="768">
                  <a:moveTo>
                    <a:pt x="0" y="768"/>
                  </a:moveTo>
                  <a:lnTo>
                    <a:pt x="1104" y="0"/>
                  </a:lnTo>
                  <a:lnTo>
                    <a:pt x="2064" y="0"/>
                  </a:lnTo>
                  <a:lnTo>
                    <a:pt x="960" y="768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1981080"/>
              <a:ext cx="1752480" cy="152424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0" y="768"/>
                  </a:moveTo>
                  <a:lnTo>
                    <a:pt x="1104" y="0"/>
                  </a:lnTo>
                  <a:lnTo>
                    <a:pt x="1104" y="192"/>
                  </a:lnTo>
                  <a:lnTo>
                    <a:pt x="0" y="96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" y="3200400"/>
              <a:ext cx="1523880" cy="304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1981080"/>
              <a:ext cx="152424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1981080"/>
              <a:ext cx="1752840" cy="152424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0" y="768"/>
                  </a:moveTo>
                  <a:lnTo>
                    <a:pt x="1104" y="0"/>
                  </a:lnTo>
                  <a:lnTo>
                    <a:pt x="1104" y="192"/>
                  </a:lnTo>
                  <a:lnTo>
                    <a:pt x="0" y="960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" y="1981080"/>
              <a:ext cx="3276720" cy="1219320"/>
            </a:xfrm>
            <a:custGeom>
              <a:avLst/>
              <a:gdLst/>
              <a:ahLst/>
              <a:rect l="l" t="t" r="r" b="b"/>
              <a:pathLst>
                <a:path w="2064" h="768">
                  <a:moveTo>
                    <a:pt x="0" y="768"/>
                  </a:moveTo>
                  <a:lnTo>
                    <a:pt x="1104" y="0"/>
                  </a:lnTo>
                  <a:lnTo>
                    <a:pt x="2064" y="0"/>
                  </a:lnTo>
                  <a:lnTo>
                    <a:pt x="960" y="768"/>
                  </a:lnTo>
                  <a:lnTo>
                    <a:pt x="0" y="768"/>
                  </a:lnTo>
                  <a:close/>
                </a:path>
              </a:pathLst>
            </a:cu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" y="1905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6680" y="3429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6200" y="1905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267080" y="2590920"/>
                <a:ext cx="48024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309840" y="3429000"/>
                <a:ext cx="5834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343400" y="4267080"/>
                <a:ext cx="41544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103720" y="5181480"/>
                <a:ext cx="25192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181480" y="5943600"/>
                <a:ext cx="2845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720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3429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1520" y="3429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4290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2670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42670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42670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51814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surface area of the following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9480" y="2133720"/>
            <a:ext cx="5639040" cy="1752480"/>
            <a:chOff x="609480" y="2133720"/>
            <a:chExt cx="5639040" cy="1752480"/>
          </a:xfrm>
        </p:grpSpPr>
        <p:sp>
          <p:nvSpPr>
            <p:cNvPr id="131" name=""/>
            <p:cNvSpPr/>
            <p:nvPr/>
          </p:nvSpPr>
          <p:spPr>
            <a:xfrm>
              <a:off x="1371600" y="2438280"/>
              <a:ext cx="3962520" cy="1447920"/>
            </a:xfrm>
            <a:prstGeom prst="can">
              <a:avLst>
                <a:gd name="adj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600" y="3505320"/>
              <a:ext cx="3962520" cy="3808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2438280"/>
              <a:ext cx="3962520" cy="38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36576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57600" y="3200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 y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81480" y="28195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y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2133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981080" y="3962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h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464832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   )( 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51814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 )(      ) + (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52578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8672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       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0" y="586728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4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4120" y="5867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5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= 251.2 yd </a:t>
            </a: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5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rface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surface area of the following fig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280" y="1828800"/>
            <a:ext cx="5639040" cy="2593080"/>
            <a:chOff x="152280" y="1828800"/>
            <a:chExt cx="5639040" cy="2593080"/>
          </a:xfrm>
        </p:grpSpPr>
        <p:sp>
          <p:nvSpPr>
            <p:cNvPr id="156" name=""/>
            <p:cNvSpPr/>
            <p:nvPr/>
          </p:nvSpPr>
          <p:spPr>
            <a:xfrm>
              <a:off x="152280" y="3352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57200" y="1828800"/>
              <a:ext cx="5334120" cy="2593080"/>
              <a:chOff x="457200" y="1828800"/>
              <a:chExt cx="5334120" cy="2593080"/>
            </a:xfrm>
          </p:grpSpPr>
          <p:sp>
            <p:nvSpPr>
              <p:cNvPr id="158" name=""/>
              <p:cNvSpPr/>
              <p:nvPr/>
            </p:nvSpPr>
            <p:spPr>
              <a:xfrm>
                <a:off x="1143000" y="2895480"/>
                <a:ext cx="4648320" cy="1143000"/>
              </a:xfrm>
              <a:custGeom>
                <a:avLst/>
                <a:gdLst/>
                <a:ahLst/>
                <a:rect l="l" t="t" r="r" b="b"/>
                <a:pathLst>
                  <a:path w="2928" h="720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0"/>
                    </a:lnTo>
                    <a:lnTo>
                      <a:pt x="1392" y="720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143000" y="320040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05320" y="2057400"/>
                <a:ext cx="2286000" cy="838080"/>
              </a:xfrm>
              <a:prstGeom prst="rtTriangle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43000" y="2057400"/>
                <a:ext cx="2362320" cy="1981080"/>
              </a:xfrm>
              <a:custGeom>
                <a:avLst/>
                <a:gdLst/>
                <a:ahLst/>
                <a:rect l="l" t="t" r="r" b="b"/>
                <a:pathLst>
                  <a:path w="1488" h="1248">
                    <a:moveTo>
                      <a:pt x="0" y="1248"/>
                    </a:moveTo>
                    <a:lnTo>
                      <a:pt x="0" y="720"/>
                    </a:lnTo>
                    <a:lnTo>
                      <a:pt x="1488" y="0"/>
                    </a:lnTo>
                    <a:lnTo>
                      <a:pt x="1488" y="528"/>
                    </a:lnTo>
                    <a:lnTo>
                      <a:pt x="0" y="1248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43000" y="2057400"/>
                <a:ext cx="4648320" cy="1981080"/>
              </a:xfrm>
              <a:custGeom>
                <a:avLst/>
                <a:gdLst/>
                <a:ahLst/>
                <a:rect l="l" t="t" r="r" b="b"/>
                <a:pathLst>
                  <a:path w="2928" h="1248">
                    <a:moveTo>
                      <a:pt x="0" y="720"/>
                    </a:moveTo>
                    <a:lnTo>
                      <a:pt x="1488" y="0"/>
                    </a:lnTo>
                    <a:lnTo>
                      <a:pt x="2928" y="528"/>
                    </a:lnTo>
                    <a:lnTo>
                      <a:pt x="1392" y="1248"/>
                    </a:lnTo>
                    <a:lnTo>
                      <a:pt x="0" y="7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371600" y="396216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 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219320" y="228600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 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38480" y="205740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 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7200" y="18288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2095560" y="1752480"/>
            <a:ext cx="6819840" cy="2209680"/>
            <a:chOff x="2095560" y="1752480"/>
            <a:chExt cx="6819840" cy="2209680"/>
          </a:xfrm>
        </p:grpSpPr>
        <p:sp>
          <p:nvSpPr>
            <p:cNvPr id="168" name=""/>
            <p:cNvSpPr/>
            <p:nvPr/>
          </p:nvSpPr>
          <p:spPr>
            <a:xfrm>
              <a:off x="6172200" y="175248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two right triangles will form a rect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65" idx="1"/>
              <a:endCxn id="168" idx="1"/>
            </p:cNvCxnSpPr>
            <p:nvPr/>
          </p:nvCxnSpPr>
          <p:spPr>
            <a:xfrm flipH="1" flipV="1" rot="10800000">
              <a:off x="4037400" y="2285640"/>
              <a:ext cx="2134440" cy="61200"/>
            </a:xfrm>
            <a:prstGeom prst="curvedConnector5">
              <a:avLst>
                <a:gd name="adj1" fmla="val -10711"/>
                <a:gd name="adj2" fmla="val -378698"/>
                <a:gd name="adj3" fmla="val -1071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3" idx="0"/>
              <a:endCxn id="168" idx="1"/>
            </p:cNvCxnSpPr>
            <p:nvPr/>
          </p:nvCxnSpPr>
          <p:spPr>
            <a:xfrm flipH="1" flipV="1" rot="5400000">
              <a:off x="3325680" y="1115640"/>
              <a:ext cx="1616760" cy="40773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1" name=""/>
          <p:cNvSpPr/>
          <p:nvPr/>
        </p:nvSpPr>
        <p:spPr>
          <a:xfrm>
            <a:off x="6400800" y="304812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6400800" y="3048120"/>
            <a:ext cx="2286000" cy="838080"/>
          </a:xfrm>
          <a:prstGeom prst="rtTriangle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019920" y="3276720"/>
            <a:ext cx="1752120" cy="992880"/>
            <a:chOff x="6019920" y="3276720"/>
            <a:chExt cx="1752120" cy="992880"/>
          </a:xfrm>
        </p:grpSpPr>
        <p:sp>
          <p:nvSpPr>
            <p:cNvPr id="174" name=""/>
            <p:cNvSpPr/>
            <p:nvPr/>
          </p:nvSpPr>
          <p:spPr>
            <a:xfrm>
              <a:off x="601992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91160" y="3809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143000" y="4495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1 = 3 ( 8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/>
          <p:nvPr/>
        </p:nvCxnSpPr>
        <p:spPr>
          <a:xfrm flipV="1" rot="10800000">
            <a:off x="1142280" y="3580920"/>
            <a:ext cx="153000" cy="991440"/>
          </a:xfrm>
          <a:prstGeom prst="curvedConnector5">
            <a:avLst>
              <a:gd name="adj1" fmla="val 200943"/>
              <a:gd name="adj2" fmla="val 27787"/>
              <a:gd name="adj3" fmla="val 20094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2895480" y="4495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4191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2 = 5 ( 8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endCxn id="179" idx="1"/>
          </p:cNvCxnSpPr>
          <p:nvPr/>
        </p:nvCxnSpPr>
        <p:spPr>
          <a:xfrm flipH="1" rot="16200000">
            <a:off x="3335760" y="344448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6095880" y="4191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 rot="16200000">
            <a:off x="2421360" y="4206600"/>
            <a:ext cx="1251720" cy="7628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3505320" y="5029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3 = 4 ( 8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5029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= 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57150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A =      +      +      +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56386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 108 ft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 baseline="6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7150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5715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715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57150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kid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71928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the space figure represented by each net, find the surfac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4876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1676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2096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28954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35812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426708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209680"/>
            <a:ext cx="68580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209680"/>
            <a:ext cx="68580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2895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35812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343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031760" y="5356080"/>
                <a:ext cx="48024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0" y="6118200"/>
                <a:ext cx="5834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00440" y="2971800"/>
                <a:ext cx="4556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560920" y="3886200"/>
                <a:ext cx="25192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618160" y="4648320"/>
                <a:ext cx="2887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12621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479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337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4324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1320" y="61182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67120" y="61182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3886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3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700"/>
                            </p:stCondLst>
                            <p:childTnLst>
                              <p:par>
                                <p:cTn id="429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1928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the space figure represented by each net, find the surfac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1905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514600"/>
            <a:ext cx="2667240" cy="685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3200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.7 y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1752480"/>
            <a:ext cx="762120" cy="7621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200400"/>
            <a:ext cx="762120" cy="7621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2133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24" idx="0"/>
          </p:cNvCxnSpPr>
          <p:nvPr/>
        </p:nvCxnSpPr>
        <p:spPr>
          <a:xfrm flipH="1" rot="16200000">
            <a:off x="2476440" y="1294200"/>
            <a:ext cx="153000" cy="1372320"/>
          </a:xfrm>
          <a:prstGeom prst="curvedConnector5">
            <a:avLst>
              <a:gd name="adj1" fmla="val -150000"/>
              <a:gd name="adj2" fmla="val 49986"/>
              <a:gd name="adj3" fmla="val -1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1981080" y="396252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w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464832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)(       ) + 2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</a:t>
            </a:r>
            <a:r>
              <a:rPr b="1" lang="en-US" sz="3200" spc="-1" strike="noStrike" baseline="6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4724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7.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51814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(     ) + (     )</a:t>
            </a:r>
            <a:r>
              <a:rPr b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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7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5257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58672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 =        +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40800" y="5867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7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49040" y="58672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2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58672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= 603 yd </a:t>
            </a:r>
            <a:r>
              <a:rPr b="1" lang="en-US" sz="3200" spc="-1" strike="noStrike" baseline="60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30  10 – 5 #1 – 7, 8 – 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71928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or the space figure represented by each net, find the surfac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828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4876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1676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2209680"/>
            <a:ext cx="266724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3048120"/>
            <a:ext cx="2667240" cy="5331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3581280"/>
            <a:ext cx="266724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4419720"/>
            <a:ext cx="2667240" cy="5331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2209680"/>
            <a:ext cx="68580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2209680"/>
            <a:ext cx="685800" cy="83844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2971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733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31760" y="5356080"/>
                <a:ext cx="48024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h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0" y="6118200"/>
                <a:ext cx="5834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600440" y="2971800"/>
                <a:ext cx="4556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560920" y="3886200"/>
                <a:ext cx="25192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618160" y="4648320"/>
                <a:ext cx="2887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2621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79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33760" y="61182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43240" y="6118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81320" y="61182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67120" y="61182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2971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3886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6-04-25T16:15:28Z</dcterms:modified>
  <cp:revision>35</cp:revision>
  <dc:subject/>
  <dc:title>No Slide Title</dc:title>
</cp:coreProperties>
</file>